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6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2.png" ContentType="image/png"/>
  <Override PartName="/ppt/media/image1.jpeg" ContentType="image/jpeg"/>
  <Override PartName="/ppt/media/image4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77C3-3746-49E9-90F0-B6D5F614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0CF-9A00-441C-8EF8-E18079E4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4DB-E597-4FB8-8BDE-5451DAEE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23D-38A3-488A-B3DA-79CC3D88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A94D-159F-4C83-B13A-D8A6EF46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3F9B-E18B-4A0F-8179-A74FCD8F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2F73-9586-4BED-8D40-A8525762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C500-1D3D-4A02-9AC0-11985CD8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04E6-5EF8-4A12-AF69-CFECE20A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710D-6600-4D5F-B3F9-5F203F02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B4E4-92BF-4B53-8F7F-E7F41ECB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9E7-6296-4AAF-B6C9-033C0677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D978-0C7D-4274-B56F-29F5D3F7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364B-DC51-40E2-99C0-F7BFE06E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0E97-0CDE-4FAD-886F-D0DB5275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3788-54D5-43C0-98D2-7BC5F1AE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5650-F012-4BDD-AB69-9F75503A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DB4E-E65D-43C7-B995-AAADCB5F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BDEA-50A9-4189-9731-D92DF847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ABF-B56D-4DD1-B595-3B58951B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53B3-B949-447B-93F6-19E2F03F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358-D68E-4E59-9BB0-50A8BD40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14C-059A-43EC-B0AD-8FF659F2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91A-A03C-4882-B45E-47F5C2A3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964B-F30B-4201-9B17-9729668EC2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D40F-C4D5-4929-AD46-89A65CB36B5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TzOiRqzzL4&amp;feature=related" TargetMode="External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GJIvEb6x6w&amp;NR=1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w10R9lv7eQ" TargetMode="External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7yku3sa4Y8" TargetMode="External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diJtDRJQEc&amp;feature=related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rm Up 12-0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your cells need to transport “stuff”?  What would be some things they would transpor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diffusion and concentration grad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osmosis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at will happen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550800"/>
            <a:ext cx="8915400" cy="6307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943600" y="685800"/>
            <a:ext cx="2362320" cy="30481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images.google.com/imgres?imgurl=http://www.goldiesroom.org/Multimedia/Bio_Images/06%2520Transport/06%2520Osmosis.jpg&amp;imgrefurl=http://www.goldiesroom.org/Note%2520Packets/06%2520Transport/00%2520Transport--WHOLE.htm&amp;usg=___jLC2fuTVg2WoENLx6stGwDLC28=&amp;h=296&amp;w=590&amp;sz=32&amp;hl=en&amp;start=19&amp;um=1&amp;tbnid=so3zloAhuKV4nM:&amp;tbnh=68&amp;tbnw=135&amp;prev=/images%3Fq%3Dosmosis%26hl%3Den%26client%3Dfirefox-a%26rls%3Dorg.mozilla:en-US:official%26sa%3DN%26um%3D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erse Osmo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714840" cy="3895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267080" y="2590920"/>
            <a:ext cx="48769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12-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n hypotonic solution?  What happens to the movement of molecule in an hypotonic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hand in your warm 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 with the Egg lab (get out your lab she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turgor pressure, plasmolysis, hypertonic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ogeneous mixture (a uniform mixture) of two or more sub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t and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ance that is dissolved in another sub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g that the solute is dissolved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most common solv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ology Warm Up 12-07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why water leaves the cell in a hypertonic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 with the l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rm Up 12-08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a graphic organizer for hypotonic, hypertonic and isotonic solutions.  Tell me which way the water moves for each and what happens to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finish our egg lab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notes on turgor pressure and plasmo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o Warm Up 12-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out a clean piece of paper you can turn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es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osmos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hypertonic solution?  What happens to the cell in this type of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hypotonic solution?  What happens to the cell in this type of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sotonic Sol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olution in which the concentration of solutes outside the cell (ex: salts) is the same as the concentration of solutes inside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uld osmosis occur in this situ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, because there is no concentration gradient (no net move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ypotonic Solu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 in which the concentration of solutes (ex - salts) is LOWER than the solute concentration inside the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way will the water mov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o the cell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ell will swell / bu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put Elodea leaves in a hypotonic solution, what happens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will move into the cell to dilute the salts – this causes the cell to s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ElodeabforeER.jpg (75362 bytes)"/>
          <p:cNvPicPr/>
          <p:nvPr/>
        </p:nvPicPr>
        <p:blipFill>
          <a:blip r:embed="rId1"/>
          <a:stretch/>
        </p:blipFill>
        <p:spPr>
          <a:xfrm>
            <a:off x="4267080" y="3940200"/>
            <a:ext cx="3886200" cy="2917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1943280" cy="2590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ElodeaafterER.jpg (77335 bytes)"/>
          <p:cNvPicPr/>
          <p:nvPr/>
        </p:nvPicPr>
        <p:blipFill>
          <a:blip r:embed="rId3"/>
          <a:stretch/>
        </p:blipFill>
        <p:spPr>
          <a:xfrm>
            <a:off x="6248520" y="4267080"/>
            <a:ext cx="289548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rm UP 12-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how diffusion works, including the concentrations needed for the substance to m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 egg l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 (hypotonic, hypertonic, isoton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urgor Pressu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ressure that exists inside a cell caused by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turgor pressure can cause animal cells to burst.  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not have a cell w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happen if there is low turgor pressure in pla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them to wi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you water the plant and it will regain the pressure and stand up stra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826400" y="5105520"/>
            <a:ext cx="1317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ypertonic Solu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 in which the concentration of solute (ex salt) is higher outside than the concentration inside the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direction will the water mo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 of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happen to an Elodea Leaf in a hypertonic solu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will leave the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molysis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will leaves the cell, and result in shriveling of the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ElodeaafterER.jpg (77335 bytes)"/>
          <p:cNvPicPr/>
          <p:nvPr/>
        </p:nvPicPr>
        <p:blipFill>
          <a:blip r:embed="rId1"/>
          <a:stretch/>
        </p:blipFill>
        <p:spPr>
          <a:xfrm>
            <a:off x="5791320" y="4346640"/>
            <a:ext cx="3352680" cy="2511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2219400" cy="2514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209680" y="4419720"/>
            <a:ext cx="1833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rm Up 12-1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plasmolysis?  What would happen to the plant cell?  What is turgor pressure?  What happens to the plant if there is low turgor pressure?  High turgor press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plasmolysis and turgor pres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 the effects of a hypo / hypertonic solution on Elodea le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Summary of Hypo/Hypertonic solution changes on a RBC.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009880" y="2573280"/>
            <a:ext cx="7134120" cy="428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7391520" cy="5183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90720" y="1143000"/>
            <a:ext cx="1904760" cy="2286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1143000"/>
            <a:ext cx="1905120" cy="2286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1143000"/>
            <a:ext cx="1905120" cy="2286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ology Warm ATB 12-1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function of the contractile vacuole?  Why do some cells need th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 in egg lab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 pa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Rubr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age – lab write 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age – gra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age – lab direction sh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 – read pages 97-1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Questions #1-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n in when d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TB 12-15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happen to a grape placed in highly concentrated sugar water?  Why would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ee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Frida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ve perme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cell shrinks, it is in what type of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cell is at equilibrium with it’s environment, its in what type of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cell swells, it’s in what type of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352680"/>
            <a:ext cx="147780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733920"/>
            <a:ext cx="110016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–9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– 1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3733920"/>
            <a:ext cx="914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95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5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5257800"/>
            <a:ext cx="1371600" cy="1371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5638680"/>
            <a:ext cx="9144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5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5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5638680"/>
            <a:ext cx="914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5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5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114800"/>
            <a:ext cx="1447920" cy="1413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4419720"/>
            <a:ext cx="914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6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36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419720"/>
            <a:ext cx="914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4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56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ntractile Vacuol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elle that excretes excess water from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found in unicellular freshwater organis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revents them from bursting in a hypotonic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le vacu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652920" y="2181240"/>
            <a:ext cx="5491080" cy="4676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191120" y="2133720"/>
            <a:ext cx="91440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2133720"/>
            <a:ext cx="2057400" cy="2895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Homeostasis and Cell Trans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7400" cy="1671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981760" y="4505400"/>
            <a:ext cx="3162240" cy="2352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4098960"/>
            <a:ext cx="3657600" cy="2759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095880" y="0"/>
            <a:ext cx="27432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lasmolys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s of turgor pressure in plant cell due to loss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s to a plant during plasmolysi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lant wi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lants plasma membrane and cytoplasm will shrink away from the cell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Egg Lab Report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be col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 your starting mass and then use your final mass dat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is in b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-360" y="3352680"/>
            <a:ext cx="5715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a column to you data t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Change in Mas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(Initial Mass – Final Mass) / Initial Mass) x 10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all the changes in mass for your eg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733920" y="0"/>
          <a:ext cx="5410080" cy="2881440"/>
        </p:xfrm>
        <a:graphic>
          <a:graphicData uri="http://schemas.openxmlformats.org/drawingml/2006/table">
            <a:tbl>
              <a:tblPr/>
              <a:tblGrid>
                <a:gridCol w="1066680"/>
                <a:gridCol w="914400"/>
                <a:gridCol w="762120"/>
                <a:gridCol w="990360"/>
                <a:gridCol w="1676520"/>
              </a:tblGrid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rting Mass (grams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 Mass (g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 in mass (g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% Change in Mas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(Initial Mass – Final Mass) / Initial Mass) x 10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g in shel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====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===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==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nega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n Syru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ille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0481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Egg Lab Report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your Dat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ure you are using the terms we’ve discussed in class in your explanation of your res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you should turn 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 –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 – Written lab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3 –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4 – Your actual lab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lective Permeabil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sma membrane to allows some materials to pass while keeping other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selective permeability import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the cell can allow important substance in (water, oxygen, glucose) and keep harmful substances out (bacteri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ssive Transpor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assive Transp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ement of particles across membranes by dif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process uses no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es moving from hi conc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ow con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124080" y="3554280"/>
            <a:ext cx="518184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Facilitated Diffus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me for passive transport using transport protei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es not use energy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2732040"/>
            <a:ext cx="74674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ucose – going from high conc. Outside cell low inside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819520" y="211464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4305240"/>
            <a:ext cx="4572000" cy="2552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048120" y="0"/>
            <a:ext cx="56577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 through the cell membra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 proteins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s that assist facilitated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81536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rm Up 12-16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function of transport proteins?  What is the function of the ion channe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FRIDAY!  RS due Frida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notes – Na + / K + pump, endocytosis, ex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et movement of particles from an area of higher concentration to an area of lower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urs because of the kinetic energy in molecules (random mov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n channels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s – transport ions from high concentration to lower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s (like Na+, Ca+, etc) are not soluble in lipids, so they must travel through proteins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 channels are ion spec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hannels are always open, some have g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es open from stimuli:  stretching of cell membrab., electrical or chemical sign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962520" y="4361040"/>
            <a:ext cx="51814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86764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ve Transp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port of materials against a concentration gradient – requires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T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adenosine tri-phosphate)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NERGY molecule for the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ks down from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P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DP (Adenosin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-phosph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drolysis of th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osphate releas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419720" y="3508200"/>
            <a:ext cx="472428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Active Transport Example</a:t>
            </a:r>
            <a:br>
              <a:rPr sz="2500"/>
            </a:b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youtube.com/watch?v=STzOiRqzzL4&amp;feature=related</a:t>
            </a:r>
            <a:br>
              <a:rPr sz="1000"/>
            </a:b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43000" y="1616040"/>
            <a:ext cx="678168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dium-potassium Pump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er protei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ers Na+ out and K+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s electrical grad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for nerve impul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youtube.com/watch?v=bGJIvEb6x6w&amp;NR=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62120" y="3040200"/>
            <a:ext cx="83818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a+ / K+ Pum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1031760"/>
            <a:ext cx="9144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ndocyt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a cell surrounds and takes in material from the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____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ergy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7467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rm Up 12-17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a picture illustrating endocyt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/ RS tomorr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for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on review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ndocyto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489640" y="2362320"/>
            <a:ext cx="3654360" cy="4238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3805200"/>
            <a:ext cx="54864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nocytosis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of fluids into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71438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2b2b2"/>
                </a:solidFill>
                <a:uFillTx/>
                <a:latin typeface="Arial"/>
              </a:rPr>
              <a:t>DEM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ffusion in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od dye slowly diffuses b/c of the movement of the water molecules and the dye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ffusion in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dor molecules bounce against each other and the gas molecules in the air and slowly diffuse into the class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gocytosis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er of large particles / cells into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gocytes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s that ingest bacteria / viruses – lysosomes fuse w/ vesicle to destroy them before harm do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youtube.com/watch?v=1w10R9lv7eQ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4952880" cy="33336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0" y="3276720"/>
            <a:ext cx="5715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a cell expels materials to the extracellular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exports proteins, hormones and wastes this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rocess uses ___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20040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ndo / Exocyto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267080" y="3695760"/>
            <a:ext cx="4876920" cy="31622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3444840"/>
            <a:ext cx="42670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cytosis and endocyt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youtube.com/watch?v=K7yku3sa4Y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724280" y="2809800"/>
            <a:ext cx="30765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ypo / Hypertonic Solu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85800" y="1336680"/>
            <a:ext cx="792468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centration Gradi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ce in concentration of molecules across a d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ynamic Equilibriu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ondition in which there is continuous movement but no overall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means there no longer is a concentration gradi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no “high” and no “low” – everything i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iffusion of water molecules through a selectively permeabl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 of water goes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gh concentration to lower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youtube.com/watch?v=sdiJtDRJQEc&amp;feature=relat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677232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38480" y="3276720"/>
            <a:ext cx="2667240" cy="30477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ra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way will the water mov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2895480"/>
            <a:ext cx="2666880" cy="2514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2362320"/>
            <a:ext cx="2819520" cy="2895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760" y="27795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251460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rose = 7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40440" y="366084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rose 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= 7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920" y="526104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rose = 3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= 6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55240" y="327672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rose = 6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= 3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21337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ere will the water move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586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629400" y="1905120"/>
            <a:ext cx="2514600" cy="4419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7:10:05Z</dcterms:created>
  <dc:creator>SASD</dc:creator>
  <dc:description/>
  <dc:language>en-US</dc:language>
  <cp:lastModifiedBy>SASD</cp:lastModifiedBy>
  <dcterms:modified xsi:type="dcterms:W3CDTF">2009-12-17T13:30:18Z</dcterms:modified>
  <cp:revision>47</cp:revision>
  <dc:subject/>
  <dc:title>Slide 1</dc:title>
</cp:coreProperties>
</file>